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EF4-3EF0-4679-A03B-16BAAE93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5CB1-44AC-4ACD-B889-7A91417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0A8-D6A6-491E-A2E4-38B091DB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A86-0873-430D-B912-C558D8D0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1B9A-AFDB-41A0-B03B-6D129863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0987-6591-4594-A98C-1605BD5A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ECED-1359-4284-B8FA-180633F0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150A-2B61-4844-9717-B7316354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0A15-EE7F-4E2C-B756-408231D5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33AD-D66A-44B8-A5CF-A05A82F3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952E-A435-457A-8367-29C9CA1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4E2-EF12-4874-A185-6C639CCF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FC99-AC9A-4D36-A8FC-2644E6E2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3432-C103-4052-8AF8-325822CC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2F8C-BD6B-4C2C-AFD4-F8AF55FF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D883-7AAE-404C-BC38-68F71257E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438C-EF65-4042-AF8D-3A6BB56C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980C3-183A-442D-977B-20B81EEA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51F91-A1A7-47AF-B695-61E65E4F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4BD2C-416C-41ED-BA42-85C01A2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720A-9EA1-438F-8FD2-66EE43A6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425AA-58E6-43B2-8C95-A2703A29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0B4-7380-42FE-8182-D39EA011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B720C-CD34-4B6D-A4AB-4F4282BD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C98F2-3F34-42A3-90C2-4DFCF3A2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F6637-DE9A-4AC2-AE32-6A1CA9BE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E6BB-DFEF-4036-A79F-D6387A0A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343A-EB5F-481E-ACFF-AAC9DF41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AE5B1-C44A-4220-AA99-08473CCF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AFC09-6005-44A7-A9DF-4E64AAE9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B442-EB3B-4FC6-9D4E-43FD3DF3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B879-6022-4D25-BE57-44E7147F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A17BC-90A7-4C74-BA7B-96C1B3F5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56B-8556-42C6-8FB1-4D2B1D00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C089-EBA7-4E64-B44A-065C68A1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6781-780C-477A-860A-DA0D6EF2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FCDF3-B926-4018-BE55-8A889E09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F6D57-CA8C-4D6C-8FAF-A597522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EC1E-32B2-4E95-8B9C-F9004A67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06D7D-3CD6-49F9-A137-8DC9A3E6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EB48A-B910-4BF0-A8A8-F2C3CD29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BC737-CE4E-44E5-B25C-C4674709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D87C-224F-4562-91C7-E717788F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30D2D-094D-4907-B59E-48D6CF55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BEEC-2064-43BE-AC70-2A6D3077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4A617-D63D-458C-AB30-1F2FD395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5E0EE-5981-4F68-92B3-0D437873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EB008-65C6-48D4-90EF-1CAF9F2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4051A-57CC-4F8D-A71D-F38FF980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3CDFA-7F01-4F2B-AF59-A9FF9B12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965C3-EC19-417B-98B5-87B2CB03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00561-31A2-4D58-82F9-4DC69E00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A5477-9E2C-4668-9281-920C32BF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5176F-4D76-4FB5-AED0-1FC90E4C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4FD4-EE6D-4DE1-82C8-BD755121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536A-F3B8-474E-B919-AFA28F15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208AD-77EC-48DC-8729-627A62A2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1DA46-0585-4755-A7CD-7473A3A9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EBEB3-BE7B-45DF-A4FA-9D49450F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851B-50A6-4849-95EF-E2A9C895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D13D1-2A8F-44A9-BA49-A3104F77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4334-80B2-474B-8840-4F5F36A5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93174-B49E-42E9-88B4-6364BFA3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99EA6-3748-49D6-8056-01309E3F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48C7C5-F0D0-4127-BE64-4E168CD2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AE73B-9C7F-4E15-98BE-C82AA55D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E29-A516-47AA-9B4C-3CC222F1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9D719-75EE-4E90-82B1-582033D3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C537E-061E-4973-BE4F-EDC49125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F2BE7-E2D2-41D2-8C8F-48EE2F98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AF61D-73D1-4925-8FD8-F5E1C907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EE18E-4536-4E20-AD8F-7B9E73E2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08DE7-6E3E-41C5-8DA1-0BFE097B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9A5BC-3430-4384-8EDC-389D79AC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0D0AF-1C00-4285-9A59-C8EE5339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9A1D6-08AF-4134-B6C9-CE3FC474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92672-1A97-4CA4-97AB-0A5595A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75B-DF8D-4C12-96D3-78DCCD95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24F91-D5F2-42EE-A890-553624F8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D9742-2C5E-47D7-938F-22FC5E1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A0992-343A-445F-B6CA-657D5BCC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1D24D-0CD1-4DB5-A4F2-88BA9033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2C021-23B8-41B5-ADE1-1D3E6B62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57D-1653-4D32-B733-1EA4636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FAF-92B1-44ED-9F88-39DB7905C71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CFF9-429B-4144-9BEC-F3290E21362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1E0E-25D4-41EA-9495-F3216715AE6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A837-15C0-40EC-9046-AD84F43854D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0EE8-A7DD-4E7A-9BFF-1BA6764D0B3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4221-8CAB-409F-BD5C-78D6CFA63A3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3B74-B92B-4005-8884-F4BE5D7A04B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Butterfl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1818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6"/>
          <p:cNvSpPr/>
          <p:nvPr/>
        </p:nvSpPr>
        <p:spPr>
          <a:xfrm>
            <a:off x="91440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More than meets the ey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10" descr="http://britton.disted.camosun.bc.ca/escher/butterfly2.jpg"/>
          <p:cNvPicPr/>
          <p:nvPr/>
        </p:nvPicPr>
        <p:blipFill>
          <a:blip r:embed="rId1"/>
          <a:stretch/>
        </p:blipFill>
        <p:spPr>
          <a:xfrm>
            <a:off x="2057400" y="1066680"/>
            <a:ext cx="55785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maller and Small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Content Placeholder 3" descr="smaller_and_smaller.jpg"/>
          <p:cNvPicPr/>
          <p:nvPr/>
        </p:nvPicPr>
        <p:blipFill>
          <a:blip r:embed="rId1"/>
          <a:stretch/>
        </p:blipFill>
        <p:spPr>
          <a:xfrm>
            <a:off x="2476440" y="178452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Path of Life 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Content Placeholder 3" descr="pathlife.jpg"/>
          <p:cNvPicPr/>
          <p:nvPr/>
        </p:nvPicPr>
        <p:blipFill>
          <a:blip r:embed="rId1"/>
          <a:stretch/>
        </p:blipFill>
        <p:spPr>
          <a:xfrm>
            <a:off x="2743200" y="14479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Whirlpoo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Content Placeholder 3" descr="al_Escher08_Whirlpools.jpg"/>
          <p:cNvPicPr/>
          <p:nvPr/>
        </p:nvPicPr>
        <p:blipFill>
          <a:blip r:embed="rId1"/>
          <a:stretch/>
        </p:blipFill>
        <p:spPr>
          <a:xfrm>
            <a:off x="3429000" y="1600200"/>
            <a:ext cx="2816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Equiangular Spir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2805120" y="1738440"/>
            <a:ext cx="38354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Escher_circle_limit_1.jpg"/>
          <p:cNvPicPr/>
          <p:nvPr/>
        </p:nvPicPr>
        <p:blipFill>
          <a:blip r:embed="rId1"/>
          <a:stretch/>
        </p:blipFill>
        <p:spPr>
          <a:xfrm>
            <a:off x="2590920" y="1523880"/>
            <a:ext cx="4406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CircLim3.gif"/>
          <p:cNvPicPr/>
          <p:nvPr/>
        </p:nvPicPr>
        <p:blipFill>
          <a:blip r:embed="rId1"/>
          <a:stretch/>
        </p:blipFill>
        <p:spPr>
          <a:xfrm>
            <a:off x="2514600" y="13716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V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“Heaven and Hell”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Content Placeholder 3" descr="Escher_circle_limit_4.jpg"/>
          <p:cNvPicPr/>
          <p:nvPr/>
        </p:nvPicPr>
        <p:blipFill>
          <a:blip r:embed="rId1"/>
          <a:stretch/>
        </p:blipFill>
        <p:spPr>
          <a:xfrm>
            <a:off x="2560680" y="1784520"/>
            <a:ext cx="447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quare Limi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800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4:17:27Z</dcterms:created>
  <dc:creator>Stephanie Cates</dc:creator>
  <dc:description/>
  <dc:language>en-US</dc:language>
  <cp:lastModifiedBy>Stephanie Cates</cp:lastModifiedBy>
  <dcterms:modified xsi:type="dcterms:W3CDTF">2007-07-30T04:19:18Z</dcterms:modified>
  <cp:revision>1</cp:revision>
  <dc:subject/>
  <dc:title>Butterfly</dc:title>
</cp:coreProperties>
</file>